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CAF-DF0C-48B2-9DF0-266C0115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7E2-187B-448C-BE02-DDBCCE68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245-4334-436B-B812-EBBA204F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E7F-F4EB-425D-8D51-7728F511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0F8-4497-4E81-8B34-B6445C85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DF3-1434-4712-B6CB-325DDF3C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4DD-69A3-440F-B2F2-715BDF58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D2F-8349-4818-93E2-1E187E10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321-9DF9-4F1C-AF18-C7A7CEA6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37D-DC65-478E-8B2A-C26ED2B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D60-3DFB-4054-96EE-D6421C59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9FF-AE5F-4815-9A48-810B3D35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EE55-FFF9-4E44-AE99-DD9F49FA0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527360" cy="782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5638680" cy="98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6324480" cy="104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9480" y="2514600"/>
            <a:ext cx="76964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153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696080" cy="104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8076960" cy="1654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43434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44197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010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8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83908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3:50:23Z</dcterms:created>
  <dc:creator>grahams</dc:creator>
  <dc:description/>
  <dc:language>en-US</dc:language>
  <cp:lastModifiedBy>grahams</cp:lastModifiedBy>
  <dcterms:modified xsi:type="dcterms:W3CDTF">2012-04-26T13:55:08Z</dcterms:modified>
  <cp:revision>2</cp:revision>
  <dc:subject/>
  <dc:title>Slide 1</dc:title>
</cp:coreProperties>
</file>